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D5B7-91CF-48C8-97AF-64F6FA252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B7F-7D36-49D9-A691-1C0DB597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DC2-5463-4B82-BB96-222670B5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3A5-7EA3-4AE0-AC00-AC660009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3D0-96BB-4DA1-BDCE-F406AC52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09E3-CB93-49D6-AB91-20628AD4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24E9-547F-4C06-8F77-E5CCD61D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DCE9-F717-44F3-A5B1-A7F08E04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2D07-A925-474E-9601-BB0DD32B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67CA-1628-475F-9EFB-38976B35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F78C-B749-46E8-9720-7CF6A99E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B495-20FC-4734-8404-DBB4DBCA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1A4-F66A-4299-9333-B270B4A8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7F76-6B09-4964-B068-0C599A19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6965-34C0-4CB9-93D8-33571CBC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E71D-D94B-4D0C-A001-568395CB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9EEF-4EC3-40F5-85FC-7B8779E7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91CB-EB8B-4E42-9085-23C8D63A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3C8-6C6A-42F4-A9F4-0B7446AD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79E-AE02-46EF-9C5A-7ED0FBB5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2A5-5917-456C-8E18-56EA5080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08C-C296-4E5A-9F4E-7563193C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9AA-060A-4DED-9DD8-0843E7F2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467-89B8-4DAD-AD2C-B1BF208E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55D-DA51-42C9-9507-2A82C79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DE12-28E2-4D18-96E3-BB8936EAE8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D320-B431-4E45-947F-1E990E0D7C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18:09Z</dcterms:modified>
  <cp:revision>32</cp:revision>
  <dc:subject/>
  <dc:title>basic space</dc:title>
</cp:coreProperties>
</file>